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3CA-31D5-4C62-B902-44C399D6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FE1-8887-41F8-A042-80BC9E0B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0C5-0E57-4380-AB6D-4B23D149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1C2-2FD0-449D-A280-0A7678DC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D30-90B6-493E-90C8-07B1F5F0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47E-4CF5-40C0-87DD-EFC2E267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46C-CFB0-4E1F-812C-E702E97B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757-8381-44F8-A5E2-8ED14209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AE1-89F5-4DD9-85E1-90608D00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E75-AFEB-4D34-8033-928953D5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317-59B5-4C70-A028-4A00470F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56A-4FDA-4986-A594-F689348C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99BC-0F14-4BCB-9658-DA8EE01BD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antony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557360"/>
            <a:ext cx="82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350028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008000"/>
                </a:solidFill>
                <a:latin typeface="Arial"/>
              </a:rPr>
              <a:t>anti 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me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4941720"/>
            <a:ext cx="66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eing anti or against something.  The opposi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1413000"/>
            <a:ext cx="2374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8000"/>
                </a:solidFill>
                <a:latin typeface="Arial"/>
              </a:rPr>
              <a:t>ant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8000"/>
                </a:solidFill>
                <a:latin typeface="Arial"/>
              </a:rPr>
              <a:t>a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380360" y="260280"/>
            <a:ext cx="1116000" cy="2976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364000" y="1557360"/>
            <a:ext cx="836640" cy="160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84720" y="1700280"/>
            <a:ext cx="1366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Sue</cp:lastModifiedBy>
  <dcterms:modified xsi:type="dcterms:W3CDTF">2007-04-21T19:29:27Z</dcterms:modified>
  <cp:revision>32</cp:revision>
  <dc:subject/>
  <dc:title>Simile</dc:title>
</cp:coreProperties>
</file>